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1A4-CCAC-4670-88A0-E90B47F7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EC7-7AED-45D5-9E61-C85FAEF8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4F2-A654-4ECF-A64B-1A6BE0CD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B45-3CC0-4E9B-937F-240396E6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FA19-469E-4488-9BCC-D36FE52D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90EE-2037-4032-858B-DA238182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47E1-381F-462E-A780-763AF89B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C1FA-3928-444F-BB72-7CFE124C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56D5-D7D3-45CD-9473-667CBF63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1CE8-41B5-4A84-9A5A-11644D1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DF64-43C2-4AC1-B7CC-567BD1F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E36-8536-463D-853E-7D5BD903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3942-1A22-420C-9604-4C8AF92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CDD0-9A8C-4119-A571-0E745C8F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37D1-127A-49EF-BC32-7CB9920C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42CF-0CD1-4A1B-9980-D2BCC967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2C56-E915-4669-834F-F8B3A1DA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4E8-57D8-4C44-A29F-E2560A6D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F45-4FCD-4216-9DF0-98B85E6D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9F7-A5F4-4E2C-BE4F-80E50100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328-C3CB-4188-A90F-0A2AD3AE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E0B-1AFE-4576-8E62-E7342EE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BD8-D5F4-4079-A527-126AC8AB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A44-B5E9-42DB-BA49-4447ABF3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5FCE-41CA-485A-8EB7-F6191B2B43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4718-BF7B-45F8-952A-5CC918F692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ose Read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6 – “If a man put out an eye of another man, his eye shall be put out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8 – “If he put out the eye of a freed man, he shall pay one gold mina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9 – “If he put out the eye of a man’s slave, he shall pay one-half of its valu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you think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7927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we have law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most important laws that a civilization should ha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66720" y="0"/>
            <a:ext cx="533412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6fd09"/>
                </a:solidFill>
                <a:latin typeface="Tahoma"/>
              </a:rPr>
              <a:t>Hammurabi</a:t>
            </a:r>
            <a:br>
              <a:rPr sz="54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(1792-1750 BC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457200" y="1219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th king of </a:t>
            </a:r>
            <a:r>
              <a:rPr b="0" lang="en-US" sz="2400" spc="-1" strike="noStrike">
                <a:solidFill>
                  <a:srgbClr val="e6fd09"/>
                </a:solidFill>
                <a:latin typeface="Tahoma"/>
              </a:rPr>
              <a:t>Babylonian Empi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expanded it to cover almost all of Mesopota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28600" y="34290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8" descr="babylon"/>
          <p:cNvPicPr/>
          <p:nvPr/>
        </p:nvPicPr>
        <p:blipFill>
          <a:blip r:embed="rId1"/>
          <a:stretch/>
        </p:blipFill>
        <p:spPr>
          <a:xfrm>
            <a:off x="2857680" y="2895480"/>
            <a:ext cx="6286320" cy="38023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9"/>
          <p:cNvSpPr/>
          <p:nvPr/>
        </p:nvSpPr>
        <p:spPr>
          <a:xfrm>
            <a:off x="380880" y="3352680"/>
            <a:ext cx="2210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gidly centralized system prospered from taxes and tribute – financed state irrigation and building projects (especially fortificat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ammurabi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1792-1750 BC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ound </a:t>
            </a: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1776 B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tablished a </a:t>
            </a:r>
            <a:r>
              <a:rPr b="1" lang="en-US" sz="3200" spc="-1" strike="noStrike">
                <a:solidFill>
                  <a:srgbClr val="e6fd09"/>
                </a:solidFill>
                <a:latin typeface="Tahoma"/>
              </a:rPr>
              <a:t>Law Code</a:t>
            </a:r>
            <a:r>
              <a:rPr b="1" lang="en-US" sz="32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by he would 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use justice to prevail in the land, to destroy the wicked, and the evil, </a:t>
            </a:r>
            <a:r>
              <a:rPr b="1" lang="en-US" sz="3200" spc="-1" strike="noStrike">
                <a:solidFill>
                  <a:srgbClr val="e6fd09"/>
                </a:solidFill>
                <a:latin typeface="Tahoma"/>
              </a:rPr>
              <a:t>that the strong may not oppress the wea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echnically not the first written law code – Ur Nammu fragments date to 2060 B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526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ammurabi’s Stele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uvre, discovered 1901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5715000" y="0"/>
            <a:ext cx="323388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838080" y="1828800"/>
            <a:ext cx="2895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6fd0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fd09"/>
                </a:solidFill>
                <a:latin typeface="Tahoma"/>
              </a:rPr>
              <a:t>carved on a 7 1/2 foot basalt stele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rcumference of 5’ at top; 6’ at bot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in city-squares of Babylon – stolen by invaders brought to Sus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6fd0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fd09"/>
                </a:solidFill>
                <a:latin typeface="Tahoma"/>
              </a:rPr>
              <a:t>282 laws, in 49 colum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3886200" y="2362320"/>
            <a:ext cx="2590920" cy="1143000"/>
          </a:xfrm>
          <a:prstGeom prst="wedgeRoundRectCallout">
            <a:avLst>
              <a:gd name="adj1" fmla="val -66606"/>
              <a:gd name="adj2" fmla="val -60972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is Basalt?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y was it carved on thi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>
            <a:off x="3809880" y="5181480"/>
            <a:ext cx="2133720" cy="762120"/>
          </a:xfrm>
          <a:prstGeom prst="wedgeRoundRectCallout">
            <a:avLst>
              <a:gd name="adj1" fmla="val -80060"/>
              <a:gd name="adj2" fmla="val -215000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 steal the law code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6095880" y="5486400"/>
            <a:ext cx="2819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do you thin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ws were about?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types of punishm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e give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457200" y="5181480"/>
            <a:ext cx="3276720" cy="1739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ends with a blessing for those that perpetuate the regulations and a curse for those who alter the laws or replace Hammurabi’s 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were the Laws Abou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about </a:t>
            </a: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property righ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fts, contracts, rental agreements, investments, payment for services, inheri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</a:t>
            </a: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religi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ome on </a:t>
            </a: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morally incorrect behavi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dultery, drinking, hitting fath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nishment – “</a:t>
            </a:r>
            <a:r>
              <a:rPr b="0" lang="en-US" sz="4400" spc="-1" strike="noStrike">
                <a:solidFill>
                  <a:srgbClr val="e6fd09"/>
                </a:solidFill>
                <a:latin typeface="Tahoma"/>
              </a:rPr>
              <a:t>Retributiv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6 – “If a man put out an eye of another man, his eye shall be put out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1676520" y="3200400"/>
            <a:ext cx="6629400" cy="1600200"/>
          </a:xfrm>
          <a:prstGeom prst="horizontalScroll">
            <a:avLst>
              <a:gd name="adj" fmla="val 125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at sound like any other early phra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1143000" y="2743200"/>
            <a:ext cx="6858000" cy="3581280"/>
          </a:xfrm>
          <a:prstGeom prst="upArrowCallout">
            <a:avLst>
              <a:gd name="adj1" fmla="val 47878"/>
              <a:gd name="adj2" fmla="val 47874"/>
              <a:gd name="adj3" fmla="val 16667"/>
              <a:gd name="adj4" fmla="val 6666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 Eye for an Eye; A tooth for a toot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odus 21-23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uteronomy, ch. 19, verse 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rah/Old Testament – written ca. 621 B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cial Distin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fd09"/>
                </a:solidFill>
                <a:latin typeface="Tahoma"/>
              </a:rPr>
              <a:t>Not all classes treated the s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#196 – “If a man put out an eye of another man, his eye shall be put out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….#198 – “If he put out the eye of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n, he shall pay one gold mina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#199 – “If he put out the eye of a man’s slave, he shall pay one-half of its valu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685800" y="5638680"/>
            <a:ext cx="72388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member his words….“that the strong may not oppress the wea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Do you think he meant i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9112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s-relief of the Ste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54320" cy="429732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9"/>
          <p:cNvSpPr/>
          <p:nvPr/>
        </p:nvSpPr>
        <p:spPr>
          <a:xfrm>
            <a:off x="6095880" y="2057400"/>
            <a:ext cx="1828800" cy="1523880"/>
          </a:xfrm>
          <a:prstGeom prst="wedgeRoundRectCallout">
            <a:avLst>
              <a:gd name="adj1" fmla="val -189842"/>
              <a:gd name="adj2" fmla="val -11458"/>
              <a:gd name="adj3" fmla="val 16667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do you think I a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-4408560" y="310824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5867280" y="4343400"/>
            <a:ext cx="2210040" cy="1600200"/>
          </a:xfrm>
          <a:prstGeom prst="wedgeRoundRectCallout">
            <a:avLst>
              <a:gd name="adj1" fmla="val -131967"/>
              <a:gd name="adj2" fmla="val -76486"/>
              <a:gd name="adj3" fmla="val 16667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have the laws been handed down by a go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AutoShape 12"/>
          <p:cNvSpPr/>
          <p:nvPr/>
        </p:nvSpPr>
        <p:spPr>
          <a:xfrm>
            <a:off x="533520" y="4495680"/>
            <a:ext cx="2286000" cy="1143000"/>
          </a:xfrm>
          <a:prstGeom prst="cloudCallout">
            <a:avLst>
              <a:gd name="adj1" fmla="val -27291"/>
              <a:gd name="adj2" fmla="val -70416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, I’m Hammurab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0:54:25Z</dcterms:created>
  <dc:creator> </dc:creator>
  <dc:description/>
  <dc:language>en-US</dc:language>
  <cp:lastModifiedBy>Windows User</cp:lastModifiedBy>
  <dcterms:modified xsi:type="dcterms:W3CDTF">2014-09-30T11:03:22Z</dcterms:modified>
  <cp:revision>17</cp:revision>
  <dc:subject/>
  <dc:title>Did You Know  It’s the Law in New York since 1695</dc:title>
</cp:coreProperties>
</file>